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4E5-8034-420E-8179-DB132E3D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546-D4DE-4D4B-9E9F-1504F88D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B09-2C10-42E4-B79D-BC1EE41D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D50-89D8-4918-BB5A-AEFAFA69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33D-3E89-4078-97AE-F315F8C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29C-E989-4E78-B77D-DC5090C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9D4-3F7A-4E83-A8B6-92C13FA2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377-0492-49B1-A844-906428B5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25F-96F3-4D48-AC74-ADDF8E59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7B3-BC5A-4EFF-AF89-AD1C691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687-139E-48E2-BF3F-9EB1FEA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C91-B39E-41FB-9003-5F8DBF1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DE6F-DABD-4DD5-B157-D4F686CE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52280"/>
            <a:ext cx="457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s Comid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Nicholas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43200" y="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s Comida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791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Nicholas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19200" cy="18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29400" y="2514600"/>
            <a:ext cx="2314440" cy="1971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35268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392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1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nqueq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304920"/>
            <a:ext cx="40384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Desayu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66880" y="2286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Almuerz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66688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648160" cy="16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pita En Una Ga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ca de Cacahuet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64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4495680"/>
            <a:ext cx="1469880" cy="1886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152280"/>
            <a:ext cx="29196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C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 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24480" y="3200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57913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2895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S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762280" cy="18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5400000">
            <a:off x="2790000" y="1400040"/>
            <a:ext cx="3429000" cy="933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 Post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2438640" cy="239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992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ta De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4120" y="3886200"/>
            <a:ext cx="2800080" cy="2193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5880" y="60958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6:38Z</dcterms:created>
  <dc:creator>nickgrace</dc:creator>
  <dc:description/>
  <dc:language>en-US</dc:language>
  <cp:lastModifiedBy>nickgrace</cp:lastModifiedBy>
  <dcterms:modified xsi:type="dcterms:W3CDTF">2012-04-05T17:13:10Z</dcterms:modified>
  <cp:revision>8</cp:revision>
  <dc:subject/>
  <dc:title>Slide 1</dc:title>
</cp:coreProperties>
</file>